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51BC-C1A8-49D1-B0C2-8341DF534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C77E-66A6-4392-B58D-ECA74D4543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3773-ABCC-4F6F-8046-39635C2EC3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0BFD-490D-4DA2-BACA-BC7991AA58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AF1E-6E69-46DD-818A-25EF60D80C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F246-74E9-48CE-BB96-8FFA69AB27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7888-4275-436A-9B32-F6DF382185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5DB9-91F7-4703-9FB2-96BE90A242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BE9A-59C9-40EC-9B81-7B958AB312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7BE4-0402-4162-A1B9-DB9C9CFC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6B2-2AF7-44D6-AA5C-80B28CE6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5192-D431-4C09-B60A-318297F3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822C-500C-4D84-A9F4-667A3475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753-6265-4D35-91F0-0CAD42D7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939B-ECA9-4200-A83D-A0D5864E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92AE-013D-4B35-9982-6AE0167E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B177-D35C-4684-A51B-D30A2293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26B-C483-40A7-9656-6630E369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F6B-BC45-487B-9A2B-FFD8A718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B310-66DA-438E-AB85-83982153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51C4-A66A-4CBB-B142-D1C74BF4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9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6ADF-CFDB-4FEA-A61D-DEF8F986DF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"/>
          <p:cNvPicPr/>
          <p:nvPr/>
        </p:nvPicPr>
        <p:blipFill>
          <a:blip r:embed="rId1"/>
          <a:srcRect l="0" t="0" r="1001" b="0"/>
          <a:stretch/>
        </p:blipFill>
        <p:spPr>
          <a:xfrm>
            <a:off x="304920" y="685800"/>
            <a:ext cx="7772400" cy="5905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9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 Black"/>
              </a:rPr>
              <a:t>Journal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:  Write a paragraph answering, “How do you want to pop?”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Arial Black"/>
              </a:rPr>
              <a:t>“</a:t>
            </a:r>
            <a:r>
              <a:rPr b="0" lang="en-US" sz="7200" spc="-1" strike="noStrike">
                <a:solidFill>
                  <a:srgbClr val="003300"/>
                </a:solidFill>
                <a:latin typeface="Arial Black"/>
              </a:rPr>
              <a:t>Bee” Prepared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7" descr="AN01725_[1]"/>
          <p:cNvPicPr/>
          <p:nvPr/>
        </p:nvPicPr>
        <p:blipFill>
          <a:blip r:embed="rId1"/>
          <a:stretch/>
        </p:blipFill>
        <p:spPr>
          <a:xfrm>
            <a:off x="457200" y="3276720"/>
            <a:ext cx="3657600" cy="3003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4419720" y="22096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What do we need to do to “Bee” prepare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4495680" y="464832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How does making decisions help you to be prepare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380880" y="1066680"/>
            <a:ext cx="85345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Decision Making</a:t>
            </a:r>
            <a:endParaRPr b="0" lang="en-US" sz="96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9372600" y="-15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86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teps to Making a Deci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7" descr="BD07022_[1]"/>
          <p:cNvPicPr/>
          <p:nvPr/>
        </p:nvPicPr>
        <p:blipFill>
          <a:blip r:embed="rId1"/>
          <a:stretch/>
        </p:blipFill>
        <p:spPr>
          <a:xfrm>
            <a:off x="609480" y="1447920"/>
            <a:ext cx="3349800" cy="5105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4343400" y="1447920"/>
            <a:ext cx="4419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Step 5:  Evaluate results of the decision and accept responsibility for results of the decision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Step 4:  Make a decision, plan and act on the decision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Step 3:  Explore and evaluate possible solutions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Step 2:  Brainstorm possible solutions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Step 1:  Identify the problem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447920" y="1828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EVALUAT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990720" y="3733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IDENTIF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1143000" y="3048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BRAINSTORM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447920" y="2133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C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129528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EXPLOR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Arial Black"/>
              </a:rPr>
              <a:t>What influences your decisions?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WordArt 4"/>
          <p:cNvSpPr txBox="1"/>
          <p:nvPr/>
        </p:nvSpPr>
        <p:spPr>
          <a:xfrm rot="19704600">
            <a:off x="380520" y="4343040"/>
            <a:ext cx="3495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Peer Pressure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66" name="WordArt 5"/>
          <p:cNvSpPr txBox="1"/>
          <p:nvPr/>
        </p:nvSpPr>
        <p:spPr>
          <a:xfrm>
            <a:off x="2666880" y="5562720"/>
            <a:ext cx="4343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Society's Expectations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67" name="WordArt 6"/>
          <p:cNvSpPr txBox="1"/>
          <p:nvPr/>
        </p:nvSpPr>
        <p:spPr>
          <a:xfrm rot="1819800">
            <a:off x="5257800" y="2666880"/>
            <a:ext cx="3495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Self-image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4572000" y="4191120"/>
            <a:ext cx="4267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Parental Expectations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69" name="WordArt 8"/>
          <p:cNvSpPr txBox="1"/>
          <p:nvPr/>
        </p:nvSpPr>
        <p:spPr>
          <a:xfrm>
            <a:off x="533520" y="1676520"/>
            <a:ext cx="4419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Other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Commitments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 Black"/>
              </a:rPr>
              <a:t>Group Decision Making Assignment (HO)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Work 10 minutes by yourself – 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NO talk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Work 10 minutes with group (5 peop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Take home and finish with whoever will help you.  Bring to class completed nex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Arial Black"/>
              </a:rPr>
              <a:t>Cost vs. Benefit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Before making a decision, weigh the cost vs. benef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n the story, Country Mouse thinks about what he likes (the benefits), and then he thinks about what he does not like (the costs), and then he makes a decision to stay or go ho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 Black"/>
              </a:rPr>
              <a:t>Choice vs. Chance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very day we make choices based on the chance that certain events might occu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We estimate the probability for the event to occu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Then we examine the consequence of the event and make a decis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7T16:15:47Z</dcterms:created>
  <dc:creator>Doreen Robinson</dc:creator>
  <dc:description/>
  <dc:language>en-US</dc:language>
  <cp:lastModifiedBy>Eliss Herman</cp:lastModifiedBy>
  <dcterms:modified xsi:type="dcterms:W3CDTF">2013-10-16T12:11:27Z</dcterms:modified>
  <cp:revision>70</cp:revision>
  <dc:subject/>
  <dc:title>Self-Management A</dc:title>
</cp:coreProperties>
</file>